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F5DF-F42F-4C59-9B72-0945665E6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A61D-1A15-491D-BE88-370EEA58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BF0C-1EF5-4F2E-A8A5-C3CF4358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F1A4-E14C-454A-8605-9781E9C5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3B91-47E2-4AB8-8429-DB7A5A81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D8506-8475-4476-9DEB-993C9906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B0AB9-425A-4511-8B56-58B6A9F7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E58A9-D30E-4CA9-9051-A3448596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420CB-10D5-4193-91C3-42FB3247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06D5D-037D-4696-9B7A-AF919B87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D13B9-1D99-473F-894A-A8BAC01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2D3E8-3482-4855-80DA-F515C252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59B9E-B14A-48AD-BE47-5D66E469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CDAFD-1CCB-471C-8998-5A81E77C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A08CE-7336-4E53-8EF3-D8D6F931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1DB2-9673-4E30-A43B-CD4EEFF8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9B88D-1DA7-4C34-9E65-CFDB0ADD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6797A-E4C2-4D86-BF5E-A5DDB2C6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37ABE-1E74-4683-8909-4AD18D09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EB2C8-C601-4C71-AF42-8469DD71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9B081-199F-4FC6-BD7D-709C2617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E87E7-0185-45CC-AAFC-5746A90D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DA2A0-43E2-4ED0-A678-1C6B89AF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E731C-8801-49EA-9B29-5385AD50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51A7C-F664-4888-9D0A-BED04CF8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83A07-BE62-4C9F-9D5B-2253BB68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849C-A51F-45D5-9F22-A6C25606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61506-3470-4F13-9E76-5424EF10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ACC156-6B61-4DB4-BAB3-0D897168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1570B5-2113-493D-B3C4-2380A1C5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457281-41C1-45CA-967D-616A54D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4D3FA8-8B99-4526-900E-3E07C959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BCE121-7044-4CAC-BDC5-1D81E513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87D9AA-E6FD-4836-A203-4D01513C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FEFC1A-5901-40F3-A066-3E49EC9B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C5DEAB-5A1B-4028-89CD-00EA36E1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447226-A469-4C6E-9C65-058F383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D121-6449-4EAB-A6BB-85F4DAD6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16129A-D509-4304-BF88-989FF84A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6E76F5-2E6F-4591-BAF9-0A96EDD6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84465A-3A1D-46F1-B2C2-DB4FB0E2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EF772-2A96-448A-BE6D-C9CB6E3B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2E704-3C40-4016-89DC-F7E31966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7AFE8-E6B6-4555-B464-1C10D1B4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115F6-FD22-4C18-A4C9-02E1B970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55F48-E439-42B5-9D38-2008BD72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E324A-74D7-49B5-887F-44555D31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5E39F-2ED8-40B9-87E5-020A6D3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1585-FECE-46DF-9131-6F334CEC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0E616-F75A-4545-B283-10D3E3E8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E4758-152E-4E7D-B045-0F589740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17655-20A1-4EA2-8970-CA47E743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4D5A2-DD25-4157-BB9E-5EEFF56D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AD9E9-3429-4C46-873D-B0082A4D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72CA13-A3AA-43D5-B68E-A953E160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6604BB-60A7-4E74-B7E2-389754AD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CEBB45-89F5-486C-8D76-5470CA1D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DC66E8-7A2F-4ADE-B358-337BE03F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8E6869-5D6C-4402-8EEA-8126A80F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C189-522D-4EB5-B6C9-7897329D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E38261-BAD4-4F78-8607-7E2CE6E7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CC0DD8-7DF1-4179-BA62-5FA797FE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F3038C-948A-4547-A543-921942A6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7CD853-2A4D-4629-919C-0453DE46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5B3FC2-7AD5-45A8-8BD2-95334964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00DAA4-65AB-4ED0-94AE-853336E1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51E93A-4DBB-4947-8678-91059712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403BB2-66F3-4797-ADFD-5BABA5C4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2AF33F-D9E4-45EC-988D-9FF843E1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4BB2B7-1F23-445B-9B53-15A576D2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41D7-DA79-4B4E-8B98-2B949A38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9FD05C-6A04-4E39-A7C4-BFFB829F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22F8A1-B38B-4AD3-A3ED-C53363AD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5C16D2-5010-41A4-9FA4-D0B9654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EC9385-CFD8-47AD-996C-FA9359BE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8610A2-ABE6-4B21-A1A8-DFCC793A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C500B8-E88D-495B-8B5D-9CB1DDB2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08DF1C-B6B5-47E7-9B23-36B08E6D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CA09BB-D5BB-424D-BCDB-D70772AE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A84D1F-103A-4ECF-AE16-7826D319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91EDEE-C204-4C35-A0F4-5A9D32B9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4E20-FD86-411A-A230-349542EF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D09808-007B-479F-BCBD-9AC34125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653BEF-D147-4923-84BE-4613EAD6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EDA038-61F6-4235-94D9-93705D51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48FD91-361F-4792-96C7-B9E0388B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4C0428-40AE-4196-B449-E939D733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A269C3-C9C7-4829-9097-7DEBC168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B352E1-FE2C-46EF-AFD8-7AD88F17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8D6E86-1F97-4196-B04F-D8553292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7F0EC6-0E4A-4CB6-93A2-070583E7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4D4608-D9C7-497D-8DC7-11B80D85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FC54-02E4-49A1-8D68-EA5A28C3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079BEE-7AF4-44DB-927A-67F37FC1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5869B7-C65D-48D9-918C-F0970C28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8EE813-524B-4B5F-AB3F-73697E10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9D7B04-4855-4674-94F0-DEAF1114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5A1937-70BB-4210-9F93-0D09EF13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71AF94-A13A-4CFC-9797-A796A77C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789AD6-3432-42D4-82C2-B9D71F96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5DFAF8-C4BF-4FDE-91FF-F8692C1C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C2A251-6404-4984-B88D-B81CC9D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E32424-BC26-41AE-AB2F-D333EC27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C983-8876-41B9-A7D0-F6A4D28B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82945B-A1D0-4B30-92D6-C80CEB2D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30E4A0-96B4-4BE6-B249-CBC3B5D3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19ADDF-02E5-4507-9A5F-B348061B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BF202F-12EE-4E77-90F7-2F2E460B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990725-379C-4000-9656-67E46B21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CC4D44-FBA7-40BB-BFD8-5AE6E46D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749CC4-24CD-41E7-B95C-66DB2469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6AA5F9-DD9F-4FFC-9CD0-ED4A6A92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76A83B-6593-4A34-B452-2D5BAB18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95A02F-3DEC-4955-9826-598BE046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9E43-9808-4140-88B0-4446FFB1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7A8E-6A25-471A-BC71-9B40F172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C16DBD-D9B5-45A9-933E-1DC3FE3A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BB9CFB-094C-412C-A3F0-10C906D3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8D5F8C-F1E6-4920-9F71-52EE31F6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C25CFE-F517-4191-87F5-2492644C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62D3E7-00B8-4728-B492-F066A119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2178342-CA75-4B55-816B-B2F422C4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3B9A72-7E2E-47DF-AE70-D6AEEC09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984986-B234-4322-9D20-A3C5FFBC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9942D7-2B98-4DCE-988B-5E7BAFB6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D811F2-40EE-40F6-A70A-E22E9005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E4E8-F47E-4AE8-BA24-61BE9584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D6D436-54F8-4123-A0F0-E5575086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570901-64A5-4B80-8C49-FD162A01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0632529-874F-43DC-8496-61626F3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1DDC1F-C204-454B-A454-EA28820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9CDE0C8-4BA6-425A-A60F-14C84704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A35A66-55CD-4AA5-8075-D45B23E7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315E6A-8309-438F-8027-DE0417F1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226196-99D2-40FE-A47A-B3C2879C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F27DE0-078F-400F-A78C-78E5850E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2CF9B5-89FE-4D41-9749-5177BC3E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4EF7-ACE2-44C9-B96D-A6399074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7A3CAC-FE1B-4DB2-80E3-E7545724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6595E2-BECC-4018-B456-9A41E056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5C0E1B-D1FB-4D4E-ACFD-DB8A9330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62490D-1C1C-4F21-BBD6-DA6629B7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E89948-83AA-459D-83BE-7D7EC65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4162E7-2B63-45EC-BC98-AF0363B5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EFC68C-05E4-4A53-97CF-C20C207A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1217BA-A77F-419E-877D-96D230D2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85D7E9B-EC24-4303-A590-EEBB0E80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4BAC01-1F05-4716-8CC8-116F2AF5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8834-9886-4E52-BF34-787BD34C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4ACC5D-4859-499F-B06C-AAAD3BAC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D4D063E-C702-4CE3-B683-B064EBBE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63B453-CA5D-4041-8680-DC1DCB21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3EAD6E-8F5B-4860-B962-1DCDC3D9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34A7FC-1C89-47FD-A9CD-73DCEE18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665CC3-028B-4C96-BED8-64180E4A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E410E8-0A4E-46B9-8E0D-F558F55F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D27E3E6-DBD8-4CED-A738-BD4C8D04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F87A7E-3A97-4E52-84F3-A05D8BEF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5BF431-1FDE-47F8-A36E-A0B42D8E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E501-17AE-4FF5-8753-0118C45F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947192-A2A8-46D9-B2ED-50E9DD2F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7DC81B-D033-48D6-A560-47C2F137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64E16C-42A0-4440-94AD-DF8B8F3F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26A75E-88D9-45DD-BEAD-06AB064F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52F51E8-E49B-4811-B7BF-889A990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BE1F12-8E84-4B16-A00D-CCD1F65E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38E8F49-9D9A-45CA-9BAB-A1BD25D7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4EDB808-7619-47C8-8ED5-73BBFD54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4DC0309-2160-490D-B86B-F9667A97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A1C7BE5-373C-4800-896E-4FE883C8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0E400-5952-4833-AFB8-3DEA4F065B4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F24B26F-B4CA-4E9E-BD3D-D4E7A74D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70D9C47-39DC-4151-B314-EC072EC8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BE4421E-261C-4F18-9CDF-18B044C6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D8E135D-52F5-44E7-BD38-189E0BCF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EB030B-C500-4872-9019-6A2C2C1A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1690CC6-55CA-4BA8-9C65-46585312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1C725AE-1B6C-41D2-91E2-99DA1DB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0A788F-E3A5-40A0-B923-E93F1454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EA44E5E-85B8-4DEB-B519-1311F0AB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FD3917-F91B-45EB-9138-D4944D71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65DE4-04FE-4057-83AE-0DF2ECE9C68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2A0CD34-58C3-470C-951A-446B39C2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05AB226-3426-436A-8665-41A856C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335D25B-613A-4CD5-BB4D-10B02294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22F0AD7-762B-4492-933C-E6DCE2C6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BB5855-CD1D-45BE-A224-7794086A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BB6A85-039E-4D21-B2BF-CE76AF67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771E0CC-50CA-47B2-B135-134CD97A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264B188-51FA-4740-87A5-A0E8D3DA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D8BBB5B-FC0C-4461-AFEA-0FBF13FB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CBE58C-18D3-4C78-9C8B-59164990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455FCE-B0DB-4EB7-B5B0-405417B9C3F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0ABB146-CF46-4F2F-BEC0-31631519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C23962-24D0-4A4D-AA0D-1C345FBD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3099F1B-2F89-471E-860B-E0A9CDBD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D44CC4-7BAD-4F26-B80C-C93D71E2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1C30BC7-68E5-4887-83AF-761DF260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7D5519-5012-4B28-9582-F4D6033C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B5F239-9CDF-4B40-8B63-B1DBB4E5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CEA36B3-4444-4FA1-B74A-B9303EFF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3899320-5601-4B41-8958-8C0EEA10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3E7EB61-BCBE-4A37-9B80-ED09959A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AD5FA-FB86-44AD-9842-714B7C7BE5B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BFA36F-8DCA-4E50-84AD-8E8666F6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3D3186D-FDC9-4E22-AD25-B2CD641B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E6E9F3-8087-4A2C-AB47-179BA73B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181863E-BDB4-4243-B857-B56F90EE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9264251-5051-449F-A64C-3596DB9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4240CF6-BB75-4448-839F-6E5F117B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291E24F-2456-48A7-BB8E-E15438C3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9DC55DA-19E9-41FC-9BEA-7E42D0A3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AAC729A-EA48-4834-B9CE-F0080054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516ACD-6AE6-4EF3-8978-BF4B3898B0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3BACA5-17BE-4CFE-9A1A-CA1E4B6B895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B7EB69-1E27-4A5B-BCBA-F307CACF087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F27616-43F2-4631-A02E-DBE66CDC4BB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8AF89A-2274-46DE-81AC-014A12002AD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C6B9F5-4D5F-48E2-9075-4FADFA71747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024568-6F97-4A08-AC8C-CF2529F1E41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EC3855-2CA8-482B-AAD4-A813467C06B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DE5046-5CAF-45DC-9806-156F3412B5C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1DFAE0-5068-44B8-8116-A8A6F768B3E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92CF7A-4518-4BC8-A55D-FA1540E81FA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0F35DE-E1EB-4537-9267-B4EB48303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FE13A-9977-4793-86D9-81F68187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8484F-AAB1-4767-927F-E6660E186E9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1521DB-635D-4C51-BC17-B1FD1606B6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35E483-8751-4D71-BEC5-6166E0EE4C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3278E-DDA0-4891-B019-1D7377004F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2C6E71-F1D1-4B8C-96F9-F167B3BBFE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5F8F2A-C34C-497C-B51C-28EB77E358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56B98-55A4-4602-98D4-7292458542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7969A7-1E5E-4489-AADE-0255CD6DD0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E50003-13AC-4F76-9402-3BF9CEB1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7F400-3325-4B3B-881D-70F83B79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F2B605-0636-41ED-902C-A6DF3E21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BF45-9F2A-43A4-A2B4-EEFA2884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CB1B1-75DA-4313-B866-4FA464CB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7658D-CF70-431E-9ED0-83186FAF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5C49B-A00B-43AC-8030-60D9BC96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B23BE-0503-4B3E-AC02-CD2C32FA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80E22-B0E7-4B07-BD09-7F25671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525A43-6D0F-47DE-8C33-AAA93617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F5469-F266-4F08-A461-69462E5D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A1F4AD-789B-45E5-858F-29565D9D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285B4-0BBE-4A54-83D7-D7C8B45E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E4954E-E19F-4D39-9183-9D31C118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494B-0F83-4B51-B901-913FCAEB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457751-5615-4F1C-9796-C12825F7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A6B1B0-BB18-46AB-A376-3644ECCA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926E20-12D1-4D9A-883B-5754EFFF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C83A9-A94A-4639-BEBE-284B866B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4E1E77-B6EB-4856-9E32-4959F24A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7CF104-7193-4AFF-B436-6197C4B7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50FE07-5505-4AB3-96C8-E0114B25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E95817-D066-4553-A3FD-C5C1ACA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A1D4E9-C80B-4DD8-BCD7-B5A5997C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499775-4A2E-4CD9-BCC6-833EB80F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929E-9D5B-4FCE-8B7E-CFEFE554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353A89-FAA1-4382-9789-F1CE1E2A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5BA6E9-AD95-40EB-9DEE-A1C837FC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C962A0-CA15-4411-B7D3-1CCBFD68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F13523-CEF2-4D53-8BA4-5E058073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66D3F0-23F6-4DB0-80E5-1B8CE767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CCAC8F-DB5F-407F-88F3-29BB40BE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3CB710-48B8-4F26-B2F2-570592B2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2EC5B0-547A-45D5-95CE-930F5F9F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D09F65-6007-4B3E-AB04-525BC97A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D6DB35-DA95-465C-A2A9-C934C61C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A1D6-1884-47F2-9341-5F56DBC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59459B-49D7-4AC3-9660-37FF0CE1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11CC0E-DE0C-4B3F-94B4-7405E791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8DBD2B-8BCF-426E-8FC4-83590681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40A314-AB92-4C6B-A81F-4A2BE777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E2FA4E-8A87-4653-9D5A-C183E7E8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90FFEB-ACAE-4D9A-8C92-88AC3F26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572649-2484-4577-95FD-E87D0C09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5D311E-5AAB-414C-A56C-D34FB031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32ECF6-8CB1-4ED2-8CE6-18D333BB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7F9289-53A6-4AC9-97D9-E4181134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2EF7-4516-4E28-864B-476106D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835AA7-C947-4C08-A7EC-ACA3BF8A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7B3EFC-3698-4D5B-BBFA-4B70A77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440E7C-CA1C-4440-AF2D-8EB7A091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2B5EC9-8AE4-4D3E-895C-C70CFC70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AFC4DB-8645-4E03-8BE3-8589ACD1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E14353-26CE-49BD-8C61-E09FADE3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A1A7DC-E6FE-478D-BF32-F91C5785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F586CE-0974-4D75-B8E1-18BC648A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5B02E8-1C35-416F-9FD0-169A9E4A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1B8E9A-CC50-4BDB-8FA8-19D5DF4F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2146-A4C3-451E-852B-2575120B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F4C575-20F6-440C-8C47-C71AB56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39BB6-8170-4E41-AE86-BCA6283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9F5D91-746C-4556-A764-66BC5E09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48F9AF-315C-4EF1-8A46-F837037A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CB983C-819B-404F-B7DC-DD09A5E0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D810E3-662C-4690-B385-C6C47F2D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60517B-5625-493F-8EA7-6D48C612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9F981-59AD-43DE-8740-A955A6C3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F75D9-3719-462D-BEE0-F4B0452B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FB0A9-3DA3-45DF-82E3-4C2E6293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2CC2-108D-4696-9E27-97676FE3410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7E1F-23DA-4727-9AEF-A0BA50C8720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A2D4-94E5-4213-8BFD-68BE428A5B2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E395-E77B-45F6-A9B5-A4AFD083F85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90F2-CD5C-40A3-8D87-BDA006470D0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B5D7-7086-433F-B21A-AAD594580ED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DD1B-6922-4B15-8B0F-AAEADDF4EF5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776C-8881-40D0-BE39-2FB88C08FC2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9340-D8CC-45AC-9666-F2AE3DFA31A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32B2-42C5-464F-993B-CE555A63050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016F-1556-4C2A-AB38-F5ACF1A42EE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009A-A42C-42B8-8888-9F282762B4B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2A39-EC52-42DF-BFB1-888FB0C3E3F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A25C-C039-4AFA-9472-72B55107D52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F8B7-B1DB-4359-A6F1-C52B05C3BC3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A6B2-49C3-414B-B94A-E0DA0C73E87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7DD2-FCC1-4BA0-A615-089BACFD20B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9F74-8AFA-4631-A064-0CE6E5A826FE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3130-2EE7-4404-9E3F-6ECE66519E90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CDEA-850F-4522-9E79-DAFFA38A11D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082C-2F51-4BAA-898C-C06F4B36FAB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014C-A53B-48B2-AA02-AB2EB03A479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3125-C592-4767-8719-6288E35A9C3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A515-64F3-4B66-925B-0972C79219E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0647-BA29-4C0D-8F29-969B723FB72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7F63-E9F0-4583-9B87-9CE08665E027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Drivers of online-selling diffus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chapter will discuss the following concept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B822-CD5C-4A77-98E1-12116B4BAC6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351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100" spc="-1" strike="noStrike">
                <a:solidFill>
                  <a:srgbClr val="464653"/>
                </a:solidFill>
                <a:latin typeface="Gill Sans MT"/>
              </a:rPr>
              <a:t>Ecommerce has been on the rise, however, there are still certain pockets where the concept is in its infancy stag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100" spc="-1" strike="noStrike">
                <a:solidFill>
                  <a:srgbClr val="464653"/>
                </a:solidFill>
                <a:latin typeface="Gill Sans MT"/>
              </a:rPr>
              <a:t>Marketers should know the factors that impact the online sal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This helps in strategiz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ioritizing their resour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eparing a roadmap for their products and servi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100" spc="-1" strike="noStrike">
                <a:solidFill>
                  <a:srgbClr val="464653"/>
                </a:solidFill>
                <a:latin typeface="Gill Sans MT"/>
              </a:rPr>
              <a:t>The factors are </a:t>
            </a: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continuously evolving (Cagliano</a:t>
            </a:r>
            <a:r>
              <a:rPr b="0" i="1" lang="en-GB" sz="2000" spc="-1" strike="noStrike">
                <a:solidFill>
                  <a:srgbClr val="464653"/>
                </a:solidFill>
                <a:latin typeface="Gill Sans MT"/>
              </a:rPr>
              <a:t> et al</a:t>
            </a: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., 2003) and even now generalizable evidence is lacking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determinants of B2C online-selling require further deliveration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Limitations of online selling should be known 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100"/>
            </a:b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7C30-324A-4A09-955E-888999AB128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049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le of information, goods and services through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terconnecting and interrelating millions of consumers and fir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nables marketing communications to become interac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size of the potential mar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behavioural pattern of custom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echnological infra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broadband penetration rat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gal framework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degree of involvement of the public authorities in framing legal framework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policies that favor its developmen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legal, fiscal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661D-9CCF-4F4E-A9E5-2F329D5EA8E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18960"/>
            <a:ext cx="7083360" cy="1114560"/>
          </a:xfrm>
          <a:prstGeom prst="rect">
            <a:avLst/>
          </a:prstGeom>
          <a:noFill/>
          <a:ln w="0">
            <a:noFill/>
          </a:ln>
        </p:spPr>
        <p:txBody>
          <a:bodyPr tIns="15228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legal framework ..contd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64653"/>
                </a:solidFill>
                <a:latin typeface="Gill Sans MT"/>
              </a:rPr>
              <a:t>consumer protection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Privacy policy (information about individuals can be combined and integrated with information obtained from conventional physical channels)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 firm’s business strate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firm’s internal environmen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ecision to adopt online-selling as a strateg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consumer empowerment (information on product features, price comparisons, etc.)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identifying the best products to satisfy their need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evaluating their different purchase option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intervening in the design of the value proposition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online price levels compared to traditional form of sale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product differentiation, brand awareness and reputation from online users review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BE2B-6388-40D7-BFAA-22C116B9F66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 firm’s business strategy</a:t>
            </a:r>
            <a:r>
              <a:rPr b="1" lang="en-IN" sz="2000" spc="-1" strike="noStrike">
                <a:solidFill>
                  <a:srgbClr val="000000"/>
                </a:solidFill>
                <a:latin typeface="Gill Sans MT"/>
              </a:rPr>
              <a:t>..contd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product information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website design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customer service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reliability and speed of delivery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brand image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facilities for making orders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loyalty programs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personalization of the communication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switching cost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benefits of convenience provided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Perception about financial data security (fraudulent use of credit cards)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winning the consumer’s confide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4EE6-A10B-4DBA-85DB-90E3BE00A32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F74F-A654-473E-ADBF-C90A686DC90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Objeto 2" descr=""/>
          <p:cNvPicPr/>
          <p:nvPr/>
        </p:nvPicPr>
        <p:blipFill>
          <a:blip r:embed="rId1"/>
          <a:srcRect l="0" t="0" r="0" b="-251"/>
          <a:stretch/>
        </p:blipFill>
        <p:spPr>
          <a:xfrm>
            <a:off x="685800" y="114300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ummary from empirical 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influence of a marketing factor from the Internet firms’ competitive environmen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egal environment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heir value proposition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he technological infrastructure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adoption of broadband technolo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egal framework of consumer protection on the Interne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differentiation strate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price leadership strate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BAA1-D0B3-4944-8C9E-FB6B3F6DF378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12T03:07:48Z</dcterms:modified>
  <cp:revision>453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